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335-1613-487C-BF65-574BB47E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2AB-461F-41B6-800E-93C2C75A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27C-C43A-4E85-B70D-452EBC38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52B-3F64-4689-B509-0D166DC4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291-6240-4B2A-9BAA-8106BBC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BEA-5267-4B69-9996-DBF8DE5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74E-C979-4F3E-8744-115EA6D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747-D8B9-4DF1-A908-8DF962E1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6A2-0B7B-41FF-9D88-18338772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145-DE78-46C6-AE2E-3C5EFDF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330-3601-4394-AD6A-DC6855DA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9B8-82E5-4629-9D33-50109A7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857E0-6888-48AF-8E0F-0E6038F56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It would affect agri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Food sho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00000"/>
            <a:ext cx="9720360" cy="21607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247782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ff3366"/>
                  </a:solidFill>
                  <a:miter/>
                </a:ln>
                <a:solidFill>
                  <a:srgbClr val="ff3366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Times New Roman"/>
              </a:rPr>
              <a:t>Melting ice on the top of mountains</a:t>
            </a:r>
            <a:endParaRPr b="0" lang="en-US" sz="1800" spc="-1" strike="noStrike">
              <a:ln w="9360">
                <a:solidFill>
                  <a:srgbClr val="ff3366"/>
                </a:solidFill>
                <a:miter/>
              </a:ln>
              <a:solidFill>
                <a:srgbClr val="ff3366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It would affect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Georgia"/>
              </a:rPr>
              <a:t>Adaptation of the practices of production to the global warming The intensification of the global warming will imply(involve) modifications in the practic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choice of a genetic material suited with the selection of varieties to longer or later cycle, more heatp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development (clarification) of new practices with the adjustment of the calendar of the cultures and the cultural techniques (fertilization, irrig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consideration of the development or the emergence of diseases and damage mak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- the application of agricultural practices limiting greenhouse gas emissions, in particular to fertiliz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Food</a:t>
            </a:r>
            <a:r>
              <a:rPr b="1" lang="fr-FR" sz="4400" spc="-1" strike="noStrike" u="sng">
                <a:solidFill>
                  <a:srgbClr val="ff3366"/>
                </a:solidFill>
                <a:uFillTx/>
                <a:latin typeface="Arial"/>
              </a:rPr>
              <a:t> </a:t>
            </a:r>
            <a:r>
              <a:rPr b="1" lang="fr-FR" sz="4400" spc="-1" strike="noStrike" u="sng">
                <a:solidFill>
                  <a:srgbClr val="ff3366"/>
                </a:solidFill>
                <a:uFillTx/>
                <a:latin typeface="Georgia"/>
              </a:rPr>
              <a:t>shor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There is less and less food, the prices get up very fast. You can manage it by yourself, making your own survival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http://www.foodshortageusa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